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applause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12E-CC09-458E-8B4C-D7B96367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377-5C37-4C68-BC4B-9019B137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599-A73B-4EE9-82E1-73B92B15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F51-67D3-4F80-936E-101B6BDE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5271-455E-41CE-93A2-A58C5B6D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D088-73CA-43F2-A125-B97D83BA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CFEE-9BBC-4B77-9756-3DF57D0B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ED68-B3D0-4605-A828-9C53C510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7BA8-5B8C-421B-8E3E-75391B63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EEBD-187B-42CC-9E99-A2E5F93B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D461-375B-4655-86C7-225A06AE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1A9-2439-4DB2-8EF5-30029011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5E94-6BA9-4914-BBBD-7A1A10B9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327F-9A56-4768-BEB1-E2096A5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C734-F18A-4D0D-8380-B9492EB6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C505-0803-4DFA-ABE3-D7E75789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8A78-D618-4885-9722-CC8E18BB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275B9-7CE2-4EE5-A180-2D39E5D6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C5919-80F1-4356-B5E8-90F27FCF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C33DA-BB8E-447B-A98C-C4B1E582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41EDD-1473-4722-A374-0605862C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27476-39D5-4633-B860-4D0B1EA1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CE8-756E-4BBA-9E48-1BEF79A7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4934A-EAC5-42EB-B4C3-D5CF09D4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D0D37-3686-438C-A835-95B1617D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28ECC-3E9B-4F4A-8B3C-6ACE3A54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A82E5-CC13-4180-8C0D-1B726B95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986A9-8755-49C0-8CC8-124DB6CB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24A9B-8883-44FD-BAB9-94E7DEDA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CF152-70F7-4888-B974-4ABD4E9F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30C92-3106-4866-AA08-D461B384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00E4-B355-4E16-91E1-21CF82D8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C3F0-60CA-4E05-8E42-CC27FF2B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DEE-D2A0-4BF8-A516-71C32320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180D-D87E-4C27-82E1-D8F32129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978C1-69F0-48E2-ABF9-2B4B111A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918A-2268-45C5-AA61-5A099CCE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005F-2B0D-4036-A3CE-7984F09C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90FD0-B383-4A35-BFD3-97550469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9732E-5F02-45F2-9F21-EC59A11F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D64AA-70F8-4908-BA3D-23759D77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E993-EBBD-4024-A86D-ED07F24C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A1403-EF2A-418B-96FC-87B2A04C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502-8A3E-47AB-8CF8-187C3367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2AC-101D-4256-A6BD-13E9E3E8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9C9-2929-40CE-86AF-FD405FDF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779-0AC1-436E-9F0D-2C2B2CCD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8F7-9A7E-449C-885E-D9CC8FE4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2AA1-4439-425C-AAA8-4D2802279768}" type="slidenum">
              <a:rPr b="0" lang="en-A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0680-5498-4CBF-A1E3-A333511D2008}" type="slidenum">
              <a:rPr b="0" lang="en-A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7A80-6325-4147-9E25-56621B147B43}" type="slidenum">
              <a:rPr b="0" lang="en-A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351A-7E6A-4EE1-98DA-4D5BA2FC8F00}" type="slidenum">
              <a:rPr b="0" lang="en-A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b0f0"/>
                </a:solidFill>
                <a:uFillTx/>
                <a:latin typeface="Century Gothic"/>
              </a:rPr>
              <a:t>Hybodu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24242"/>
                </a:solidFill>
                <a:latin typeface="Century Gothic"/>
              </a:rPr>
              <a:t> </a:t>
            </a:r>
            <a:r>
              <a:rPr b="0" lang="en-NZ" sz="1800" spc="-1" strike="noStrike">
                <a:solidFill>
                  <a:srgbClr val="424242"/>
                </a:solidFill>
                <a:latin typeface="Century Gothic"/>
              </a:rPr>
              <a:t>humped tooth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24242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Picture 6" descr="C:\Documents and Settings\Jimi\My Documents\My Pictures\Adobe\Other Photos\Hybodus.pn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2562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4c600"/>
                </a:solidFill>
                <a:latin typeface="Century Gothic"/>
              </a:rPr>
              <a:t>                  </a:t>
            </a:r>
            <a:r>
              <a:rPr b="0" lang="en-AU" sz="4000" spc="-1" strike="noStrike">
                <a:solidFill>
                  <a:srgbClr val="94c600"/>
                </a:solidFill>
                <a:latin typeface="Century Gothic"/>
              </a:rPr>
              <a:t>dat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8360" y="24321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Century Gothic"/>
              </a:rPr>
              <a:t>Hybodus found first in England in 184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Century Gothic"/>
              </a:rPr>
              <a:t>It ate a range of things including; fish squid (mmmmm I love calamari)  baby opthalmosaurus (right)  small sea reptiles and the giant fish leedsicthys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Century Gothic"/>
              </a:rPr>
              <a:t>But the defences  of the shark were no match for the giant plieosaur predator X (left)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0" name="Picture 5" descr="C:\Documents and Settings\Jimi\My Documents\My Pictures\Adobe\Other Photos\leo.jpeg"/>
          <p:cNvPicPr/>
          <p:nvPr/>
        </p:nvPicPr>
        <p:blipFill>
          <a:blip r:embed="rId1"/>
          <a:stretch/>
        </p:blipFill>
        <p:spPr>
          <a:xfrm>
            <a:off x="0" y="-20520"/>
            <a:ext cx="3508200" cy="1874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C:\Documents and Settings\Jimi\My Documents\My Pictures\Adobe\Other Photos\Ophthalmosaurus_by_Amadare90.jpg"/>
          <p:cNvPicPr/>
          <p:nvPr/>
        </p:nvPicPr>
        <p:blipFill>
          <a:blip r:embed="rId2"/>
          <a:stretch/>
        </p:blipFill>
        <p:spPr>
          <a:xfrm>
            <a:off x="6121440" y="0"/>
            <a:ext cx="30225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371600" y="980640"/>
            <a:ext cx="77724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Century Gothic"/>
              </a:rPr>
              <a:t>Hybodus had 2 dorsal fins and the reason for that is unknown to Wikipedi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e3d2d"/>
                </a:solidFill>
                <a:latin typeface="Century Gothic"/>
              </a:rPr>
              <a:t>first appearing towards the end of the Permian period, and disappearing during the Late Cretaceous</a:t>
            </a:r>
            <a:r>
              <a:rPr b="0" lang="en-NZ" sz="2400" spc="-1" strike="noStrike">
                <a:solidFill>
                  <a:srgbClr val="3e3d2d"/>
                </a:solidFill>
                <a:latin typeface="Century Gothic"/>
              </a:rPr>
              <a:t> Hybodus was one of the most longest living prehistoric sharks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Century Gothic"/>
              </a:rPr>
              <a:t>The horns on its head were probably used during the mating season and territorial battles.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3" name="Picture 4" descr="C:\Documents and Settings\Jimi\My Documents\My Pictures\Adobe\Other Photos\index.jpeg"/>
          <p:cNvPicPr/>
          <p:nvPr/>
        </p:nvPicPr>
        <p:blipFill>
          <a:blip r:embed="rId1"/>
          <a:stretch/>
        </p:blipFill>
        <p:spPr>
          <a:xfrm>
            <a:off x="2286000" y="5029200"/>
            <a:ext cx="3406680" cy="1828800"/>
          </a:xfrm>
          <a:prstGeom prst="rect">
            <a:avLst/>
          </a:prstGeom>
          <a:ln w="0">
            <a:noFill/>
          </a:ln>
        </p:spPr>
      </p:pic>
      <p:sp>
        <p:nvSpPr>
          <p:cNvPr id="344" name="Line 6"/>
          <p:cNvSpPr/>
          <p:nvPr/>
        </p:nvSpPr>
        <p:spPr>
          <a:xfrm>
            <a:off x="3048120" y="5257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 flipH="1">
            <a:off x="3657240" y="5257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46" name="Picture 8" descr="C:\Documents and Settings\Jimi\My Documents\My Pictures\Adobe\Other Photos\CGTPL_Hybodus.jpg"/>
          <p:cNvPicPr/>
          <p:nvPr/>
        </p:nvPicPr>
        <p:blipFill>
          <a:blip r:embed="rId2"/>
          <a:stretch/>
        </p:blipFill>
        <p:spPr>
          <a:xfrm>
            <a:off x="5791320" y="4971960"/>
            <a:ext cx="3352680" cy="1886040"/>
          </a:xfrm>
          <a:prstGeom prst="rect">
            <a:avLst/>
          </a:prstGeom>
          <a:ln w="0">
            <a:noFill/>
          </a:ln>
        </p:spPr>
      </p:pic>
      <p:sp>
        <p:nvSpPr>
          <p:cNvPr id="347" name="Line 9"/>
          <p:cNvSpPr/>
          <p:nvPr/>
        </p:nvSpPr>
        <p:spPr>
          <a:xfrm flipH="1">
            <a:off x="8457840" y="5334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cxnSp>
        <p:nvCxnSpPr>
          <p:cNvPr id="348" name="Straight Arrow Connector 2"/>
          <p:cNvCxnSpPr/>
          <p:nvPr/>
        </p:nvCxnSpPr>
        <p:spPr>
          <a:xfrm>
            <a:off x="7164360" y="5105520"/>
            <a:ext cx="30384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9" name="Straight Arrow Connector 5"/>
          <p:cNvCxnSpPr/>
          <p:nvPr/>
        </p:nvCxnSpPr>
        <p:spPr>
          <a:xfrm flipH="1">
            <a:off x="7956360" y="5105160"/>
            <a:ext cx="1447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2"/>
          <p:cNvSpPr/>
          <p:nvPr/>
        </p:nvSpPr>
        <p:spPr>
          <a:xfrm>
            <a:off x="900000" y="134136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ybodus had two types of teeth witch made hunting very easy  for it had a wide range of prey.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y had sharp teeth for the soft and  slippery stuff  while the flat teeth were used to crush crustations. 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3988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04:11:55Z</dcterms:created>
  <dc:creator>Jimi</dc:creator>
  <dc:description/>
  <dc:language>en-US</dc:language>
  <cp:lastModifiedBy>Jimi</cp:lastModifiedBy>
  <dcterms:modified xsi:type="dcterms:W3CDTF">2014-04-16T05:55:25Z</dcterms:modified>
  <cp:revision>9</cp:revision>
  <dc:subject/>
  <dc:title>Hybodus</dc:title>
</cp:coreProperties>
</file>